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742800" cy="9907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589200" y="9459720"/>
            <a:ext cx="290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/</a:t>
            </a:r>
            <a:fld id="{47EFBE66-37F9-4D5D-8ED8-10F93B00EC1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895320" y="752040"/>
            <a:ext cx="4951440" cy="371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Click to move the slid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77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784404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837720" y="3942360"/>
            <a:ext cx="784404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77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382788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57480" y="1676160"/>
            <a:ext cx="382788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37720" y="3942360"/>
            <a:ext cx="382788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857480" y="3942360"/>
            <a:ext cx="382788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77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252540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89840" y="1676160"/>
            <a:ext cx="252540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41960" y="1676160"/>
            <a:ext cx="252540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837720" y="3942360"/>
            <a:ext cx="252540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89840" y="3942360"/>
            <a:ext cx="252540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41960" y="3942360"/>
            <a:ext cx="252540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77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837720" y="1676160"/>
            <a:ext cx="7844040" cy="43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1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77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7844040" cy="433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77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3827880" cy="433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857480" y="1676160"/>
            <a:ext cx="3827880" cy="433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77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837720" y="380880"/>
            <a:ext cx="7767720" cy="38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77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382788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57480" y="1676160"/>
            <a:ext cx="3827880" cy="433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837720" y="3942360"/>
            <a:ext cx="382788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77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3827880" cy="433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57480" y="1676160"/>
            <a:ext cx="382788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857480" y="3942360"/>
            <a:ext cx="382788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77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382788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57480" y="1676160"/>
            <a:ext cx="382788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7720" y="3942360"/>
            <a:ext cx="784404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2120" y="6400800"/>
            <a:ext cx="6324480" cy="2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7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000" spc="-1" strike="noStrike">
                <a:solidFill>
                  <a:srgbClr val="6666ff"/>
                </a:solidFill>
                <a:latin typeface="Bitstream Vera Sans"/>
              </a:rPr>
              <a:t>TTÜ 2006        T.Tammet     IT sissejuhatus loeng 2      lk     </a:t>
            </a:r>
            <a:r>
              <a:rPr b="1" lang="en-GB" sz="1400" spc="-1" strike="noStrike">
                <a:solidFill>
                  <a:srgbClr val="6666ff"/>
                </a:solidFill>
                <a:latin typeface="Bitstream Vera Sans"/>
              </a:rPr>
              <a:t>- </a:t>
            </a:r>
            <a:fld id="{B223C75C-7E93-4A11-9367-EC19EB7DA4A9}" type="slidenum">
              <a:rPr b="1" lang="en-GB" sz="1400" spc="-1" strike="noStrike">
                <a:solidFill>
                  <a:srgbClr val="6666ff"/>
                </a:solidFill>
                <a:latin typeface="Bitstream Vera Sans"/>
              </a:rPr>
              <a:t>&lt;number&gt;</a:t>
            </a:fld>
            <a:r>
              <a:rPr b="1" lang="en-GB" sz="1400" spc="-1" strike="noStrike">
                <a:solidFill>
                  <a:srgbClr val="6666ff"/>
                </a:solidFill>
                <a:latin typeface="Bitstream Vera Sans"/>
              </a:rPr>
              <a:t>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38080" y="6324480"/>
            <a:ext cx="7772400" cy="1800"/>
          </a:xfrm>
          <a:prstGeom prst="line">
            <a:avLst/>
          </a:prstGeom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77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Click to edit the title text forma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37720" y="1676160"/>
            <a:ext cx="7844040" cy="433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93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3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3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1600200" indent="-228600">
              <a:lnSpc>
                <a:spcPct val="93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4" marL="2057400" indent="-228600">
              <a:lnSpc>
                <a:spcPct val="93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5" marL="2057400" indent="-22860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6" marL="2057400" indent="-22860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Bitstream Vera Sans"/>
              </a:rPr>
              <a:t>Sissejuhatus informaatikasse</a:t>
            </a: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34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34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34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914400" y="299520"/>
            <a:ext cx="7772400" cy="311400"/>
            <a:chOff x="914400" y="299520"/>
            <a:chExt cx="7772400" cy="311400"/>
          </a:xfrm>
        </p:grpSpPr>
        <p:sp>
          <p:nvSpPr>
            <p:cNvPr id="51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V="1">
              <a:off x="8685360" y="299520"/>
              <a:ext cx="1440" cy="3114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Stoikud: lausearvutu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619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toikud uurisid, kuidas saab loogiliste sidesõnade (ja, ei, või, kui...siis) abil lihtsamatest lausetest keerulisemaid kokku panna ja kuidas näidata selliselt moodustatud lausete õigsust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i esimene, siis teine; esimene; järelikult teine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Standard Symbols L"/>
                <a:ea typeface="Standard Symbols L"/>
              </a:rPr>
              <a:t>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i esimene, siis teine; mitte teine; järelikult mitte esimene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Standard Symbols L"/>
                <a:ea typeface="Standard Symbols L"/>
              </a:rPr>
              <a:t>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itte korraga esimene ja teine; esimene; järelikult mitte teine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Standard Symbols L"/>
                <a:ea typeface="Standard Symbols L"/>
              </a:rPr>
              <a:t>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914400" y="299520"/>
            <a:ext cx="7772400" cy="311400"/>
            <a:chOff x="914400" y="299520"/>
            <a:chExt cx="7772400" cy="311400"/>
          </a:xfrm>
        </p:grpSpPr>
        <p:sp>
          <p:nvSpPr>
            <p:cNvPr id="97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V="1">
              <a:off x="8685360" y="299520"/>
              <a:ext cx="1440" cy="3114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amon Lull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las: 1235-1315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üstik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eateos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Ars magna, generalis et ultima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914400" y="299520"/>
            <a:ext cx="7772400" cy="311400"/>
            <a:chOff x="914400" y="299520"/>
            <a:chExt cx="7772400" cy="311400"/>
          </a:xfrm>
        </p:grpSpPr>
        <p:sp>
          <p:nvSpPr>
            <p:cNvPr id="102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>
              <a:off x="8685360" y="299520"/>
              <a:ext cx="1440" cy="3114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149640" y="2057400"/>
            <a:ext cx="2539800" cy="2590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Leonardo da Vinci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ca 1500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alkulaatori joonis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iljem ehitatud katseeksemplar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914400" y="299520"/>
            <a:ext cx="7772400" cy="311400"/>
            <a:chOff x="914400" y="299520"/>
            <a:chExt cx="7772400" cy="311400"/>
          </a:xfrm>
        </p:grpSpPr>
        <p:sp>
          <p:nvSpPr>
            <p:cNvPr id="108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V="1">
              <a:off x="8685360" y="299520"/>
              <a:ext cx="1440" cy="3114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048120" y="1477800"/>
            <a:ext cx="3174840" cy="11131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2895480" y="4419720"/>
            <a:ext cx="3175200" cy="12175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17 sajand: sümbolkeeled matemaatika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naloogilisi sümbolkeeli püüti luua loogika jaoks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õik püüdlused ebaõnnestusid (kuni 19 sjandi lõpuni!)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Filosoofia: nominalistide ja realistide dihhotoomia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914400" y="299520"/>
            <a:ext cx="7772400" cy="311400"/>
            <a:chOff x="914400" y="299520"/>
            <a:chExt cx="7772400" cy="311400"/>
          </a:xfrm>
        </p:grpSpPr>
        <p:sp>
          <p:nvSpPr>
            <p:cNvPr id="115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8685360" y="299520"/>
              <a:ext cx="1440" cy="3114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Schickard &amp; Pascal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612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Schickard 1625: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äitis ehitanud olema liitva, lahutava, korrutava, jagava masina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ristlik filosoof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Blaise Pascal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640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ritmeetiline masin: ainult liitis ja lahutas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Ehitas ca 50 tükki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914400" y="299520"/>
            <a:ext cx="7772400" cy="311400"/>
            <a:chOff x="914400" y="299520"/>
            <a:chExt cx="7772400" cy="311400"/>
          </a:xfrm>
        </p:grpSpPr>
        <p:sp>
          <p:nvSpPr>
            <p:cNvPr id="120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>
              <a:off x="8685360" y="299520"/>
              <a:ext cx="1440" cy="3114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800600" y="2895480"/>
            <a:ext cx="3174840" cy="19814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1523880" y="2438280"/>
            <a:ext cx="2413080" cy="26672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Leibniz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Saksa filosoof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646-1716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eibnizi arvuti(1671)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liitis, lahutas, korrutas, jaga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eibniz lõi Boole’ga sarnaneva loogikasüsteemi, mis vajus unustuss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eibniz püüdis luua universaalset sümbolkeelt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(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lingua characteristica universalis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) ja seda keelt kasutava nn “arutlemise aritmeetika”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(</a:t>
            </a:r>
            <a:r>
              <a:rPr b="0" i="1" lang="en-GB" sz="2000" spc="-1" strike="noStrike">
                <a:solidFill>
                  <a:srgbClr val="000000"/>
                </a:solidFill>
                <a:latin typeface="Bitstream Vera Sans"/>
              </a:rPr>
              <a:t>calculus rationator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)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914400" y="299520"/>
            <a:ext cx="7772400" cy="311400"/>
            <a:chOff x="914400" y="299520"/>
            <a:chExt cx="7772400" cy="311400"/>
          </a:xfrm>
        </p:grpSpPr>
        <p:sp>
          <p:nvSpPr>
            <p:cNvPr id="127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V="1">
              <a:off x="8685360" y="299520"/>
              <a:ext cx="1440" cy="3114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666880" y="1752480"/>
            <a:ext cx="3302280" cy="13716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irjutusmasin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Inglise patent, Henry Mill, 1714, ei ehitatu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meerika patent: 1829 William Austin Burt Detroidi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867, Christopher Latham Sholes, Carlos Glidden, Samual W. Soule leiutis: “Type-Writer“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Remington:  1874 (jalgpedaaliga!)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holes’ klaviatuur ca 1874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Dvoraki klaviatuur ca 1936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914400" y="299520"/>
            <a:ext cx="7772400" cy="311400"/>
            <a:chOff x="914400" y="299520"/>
            <a:chExt cx="7772400" cy="311400"/>
          </a:xfrm>
        </p:grpSpPr>
        <p:sp>
          <p:nvSpPr>
            <p:cNvPr id="133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8685360" y="299520"/>
              <a:ext cx="1440" cy="3114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971800" y="2971800"/>
            <a:ext cx="3174840" cy="12193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2895480" y="5029200"/>
            <a:ext cx="3175200" cy="12193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irjutusmasin püssitehases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641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Remington Typewriter Co. model No. 2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Civil war: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"In all history, no nation of mere agriculturists ever made successful  war against a nation of mechanics. . . .You are bound to fail"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-Union officer William Tecumseh Sherman to a Southern friend.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914400" y="299520"/>
            <a:ext cx="7772400" cy="311400"/>
            <a:chOff x="914400" y="299520"/>
            <a:chExt cx="7772400" cy="311400"/>
          </a:xfrm>
        </p:grpSpPr>
        <p:sp>
          <p:nvSpPr>
            <p:cNvPr id="140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8685360" y="299520"/>
              <a:ext cx="1440" cy="3114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457200" y="1338120"/>
            <a:ext cx="3125880" cy="30067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4343400" y="1201680"/>
            <a:ext cx="4792680" cy="31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The invention of interchange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parts.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Machines which would produce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from a preshaped mold, the variou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components needed to build 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standard infantry rifle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and workers on an assembly line who woul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construct it. The North, eager to experi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and willing to try anything that smack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of economic progress, decid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to test the waters of this inviting new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method of manufactur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5486400" y="3200400"/>
            <a:ext cx="2857680" cy="20574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erfokaard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ca 1800, Jacquar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BM-i perfokaart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914400" y="299520"/>
            <a:ext cx="7772400" cy="311400"/>
            <a:chOff x="914400" y="299520"/>
            <a:chExt cx="7772400" cy="311400"/>
          </a:xfrm>
        </p:grpSpPr>
        <p:sp>
          <p:nvSpPr>
            <p:cNvPr id="148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8685360" y="299520"/>
              <a:ext cx="1440" cy="3114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743200" y="1846440"/>
            <a:ext cx="3429000" cy="772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dustrialiseerimises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ööstuse teke ja põllumajanduse mehaniseerimin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ööstuse automatiseerimin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ontoritöö automatiseerimin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914400" y="299520"/>
            <a:ext cx="7772400" cy="311400"/>
            <a:chOff x="914400" y="299520"/>
            <a:chExt cx="7772400" cy="311400"/>
          </a:xfrm>
        </p:grpSpPr>
        <p:sp>
          <p:nvSpPr>
            <p:cNvPr id="154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V="1">
              <a:off x="8685360" y="299520"/>
              <a:ext cx="1440" cy="3114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 flipV="1">
            <a:off x="1600200" y="1141200"/>
            <a:ext cx="1440" cy="1603080"/>
          </a:xfrm>
          <a:prstGeom prst="line">
            <a:avLst/>
          </a:prstGeom>
          <a:ln w="9360">
            <a:solidFill>
              <a:srgbClr val="0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600200" y="2743200"/>
            <a:ext cx="5257800" cy="1440"/>
          </a:xfrm>
          <a:prstGeom prst="line">
            <a:avLst/>
          </a:prstGeom>
          <a:ln w="9360">
            <a:solidFill>
              <a:srgbClr val="0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917720" y="1241280"/>
            <a:ext cx="4691160" cy="1432080"/>
          </a:xfrm>
          <a:custGeom>
            <a:avLst/>
            <a:gdLst/>
            <a:ahLst/>
            <a:rect l="l" t="t" r="r" b="b"/>
            <a:pathLst>
              <a:path w="13029" h="3979">
                <a:moveTo>
                  <a:pt x="0" y="0"/>
                </a:moveTo>
                <a:cubicBezTo>
                  <a:pt x="345" y="309"/>
                  <a:pt x="734" y="558"/>
                  <a:pt x="1105" y="837"/>
                </a:cubicBezTo>
                <a:cubicBezTo>
                  <a:pt x="1438" y="1087"/>
                  <a:pt x="1740" y="1380"/>
                  <a:pt x="2110" y="1574"/>
                </a:cubicBezTo>
                <a:cubicBezTo>
                  <a:pt x="2473" y="1764"/>
                  <a:pt x="2707" y="2116"/>
                  <a:pt x="3148" y="2210"/>
                </a:cubicBezTo>
                <a:cubicBezTo>
                  <a:pt x="3508" y="2287"/>
                  <a:pt x="3795" y="2580"/>
                  <a:pt x="4153" y="2679"/>
                </a:cubicBezTo>
                <a:cubicBezTo>
                  <a:pt x="4500" y="2775"/>
                  <a:pt x="4866" y="2774"/>
                  <a:pt x="5224" y="2813"/>
                </a:cubicBezTo>
                <a:cubicBezTo>
                  <a:pt x="5591" y="2853"/>
                  <a:pt x="5865" y="3111"/>
                  <a:pt x="6229" y="3182"/>
                </a:cubicBezTo>
                <a:cubicBezTo>
                  <a:pt x="6575" y="3250"/>
                  <a:pt x="6923" y="3261"/>
                  <a:pt x="7267" y="3349"/>
                </a:cubicBezTo>
                <a:cubicBezTo>
                  <a:pt x="7597" y="3433"/>
                  <a:pt x="7934" y="3498"/>
                  <a:pt x="8272" y="3550"/>
                </a:cubicBezTo>
                <a:cubicBezTo>
                  <a:pt x="8603" y="3601"/>
                  <a:pt x="8941" y="3653"/>
                  <a:pt x="9277" y="3651"/>
                </a:cubicBezTo>
                <a:cubicBezTo>
                  <a:pt x="9644" y="3648"/>
                  <a:pt x="9947" y="3866"/>
                  <a:pt x="10315" y="3818"/>
                </a:cubicBezTo>
                <a:cubicBezTo>
                  <a:pt x="10651" y="3774"/>
                  <a:pt x="10984" y="3903"/>
                  <a:pt x="11320" y="3852"/>
                </a:cubicBezTo>
                <a:cubicBezTo>
                  <a:pt x="11677" y="3797"/>
                  <a:pt x="12003" y="3978"/>
                  <a:pt x="12358" y="3952"/>
                </a:cubicBezTo>
                <a:lnTo>
                  <a:pt x="12693" y="3952"/>
                </a:lnTo>
                <a:lnTo>
                  <a:pt x="13028" y="3952"/>
                </a:lnTo>
                <a:lnTo>
                  <a:pt x="13028" y="3952"/>
                </a:lnTo>
              </a:path>
            </a:pathLst>
          </a:custGeom>
          <a:noFill/>
          <a:ln w="9360">
            <a:solidFill>
              <a:srgbClr val="8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52640" y="1266840"/>
            <a:ext cx="4691160" cy="1317600"/>
          </a:xfrm>
          <a:custGeom>
            <a:avLst/>
            <a:gdLst/>
            <a:ahLst/>
            <a:rect l="l" t="t" r="r" b="b"/>
            <a:pathLst>
              <a:path w="13029" h="3660">
                <a:moveTo>
                  <a:pt x="0" y="3651"/>
                </a:moveTo>
                <a:cubicBezTo>
                  <a:pt x="337" y="3659"/>
                  <a:pt x="686" y="3650"/>
                  <a:pt x="1005" y="3517"/>
                </a:cubicBezTo>
                <a:cubicBezTo>
                  <a:pt x="1324" y="3384"/>
                  <a:pt x="1687" y="3401"/>
                  <a:pt x="2010" y="3282"/>
                </a:cubicBezTo>
                <a:cubicBezTo>
                  <a:pt x="2362" y="3153"/>
                  <a:pt x="2688" y="2952"/>
                  <a:pt x="3048" y="2847"/>
                </a:cubicBezTo>
                <a:cubicBezTo>
                  <a:pt x="3412" y="2741"/>
                  <a:pt x="3675" y="2505"/>
                  <a:pt x="4053" y="2411"/>
                </a:cubicBezTo>
                <a:cubicBezTo>
                  <a:pt x="4411" y="2322"/>
                  <a:pt x="4742" y="2165"/>
                  <a:pt x="5091" y="2043"/>
                </a:cubicBezTo>
                <a:cubicBezTo>
                  <a:pt x="5450" y="1917"/>
                  <a:pt x="5726" y="1666"/>
                  <a:pt x="6096" y="1574"/>
                </a:cubicBezTo>
                <a:cubicBezTo>
                  <a:pt x="6452" y="1485"/>
                  <a:pt x="6790" y="1343"/>
                  <a:pt x="7134" y="1206"/>
                </a:cubicBezTo>
                <a:cubicBezTo>
                  <a:pt x="7480" y="1068"/>
                  <a:pt x="7834" y="1039"/>
                  <a:pt x="8172" y="904"/>
                </a:cubicBezTo>
                <a:cubicBezTo>
                  <a:pt x="8493" y="775"/>
                  <a:pt x="8859" y="802"/>
                  <a:pt x="9177" y="670"/>
                </a:cubicBezTo>
                <a:cubicBezTo>
                  <a:pt x="9520" y="527"/>
                  <a:pt x="9870" y="484"/>
                  <a:pt x="10215" y="368"/>
                </a:cubicBezTo>
                <a:cubicBezTo>
                  <a:pt x="10534" y="261"/>
                  <a:pt x="10884" y="233"/>
                  <a:pt x="11220" y="268"/>
                </a:cubicBezTo>
                <a:cubicBezTo>
                  <a:pt x="11578" y="306"/>
                  <a:pt x="11909" y="165"/>
                  <a:pt x="12258" y="134"/>
                </a:cubicBezTo>
                <a:lnTo>
                  <a:pt x="12593" y="101"/>
                </a:lnTo>
                <a:lnTo>
                  <a:pt x="12928" y="34"/>
                </a:lnTo>
                <a:lnTo>
                  <a:pt x="13028" y="0"/>
                </a:lnTo>
              </a:path>
            </a:pathLst>
          </a:custGeom>
          <a:noFill/>
          <a:ln w="9360">
            <a:solidFill>
              <a:srgbClr val="00008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715000" y="1371600"/>
            <a:ext cx="123984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ööli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486400" y="2081160"/>
            <a:ext cx="16002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õllumeh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00200" y="4572000"/>
            <a:ext cx="5257800" cy="1440"/>
          </a:xfrm>
          <a:prstGeom prst="line">
            <a:avLst/>
          </a:prstGeom>
          <a:ln w="9360">
            <a:solidFill>
              <a:srgbClr val="0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917720" y="3070080"/>
            <a:ext cx="4691160" cy="1432080"/>
          </a:xfrm>
          <a:custGeom>
            <a:avLst/>
            <a:gdLst/>
            <a:ahLst/>
            <a:rect l="l" t="t" r="r" b="b"/>
            <a:pathLst>
              <a:path w="13029" h="3979">
                <a:moveTo>
                  <a:pt x="0" y="0"/>
                </a:moveTo>
                <a:cubicBezTo>
                  <a:pt x="345" y="309"/>
                  <a:pt x="734" y="558"/>
                  <a:pt x="1105" y="837"/>
                </a:cubicBezTo>
                <a:cubicBezTo>
                  <a:pt x="1438" y="1087"/>
                  <a:pt x="1740" y="1380"/>
                  <a:pt x="2110" y="1574"/>
                </a:cubicBezTo>
                <a:cubicBezTo>
                  <a:pt x="2473" y="1764"/>
                  <a:pt x="2707" y="2116"/>
                  <a:pt x="3148" y="2210"/>
                </a:cubicBezTo>
                <a:cubicBezTo>
                  <a:pt x="3508" y="2287"/>
                  <a:pt x="3795" y="2580"/>
                  <a:pt x="4153" y="2679"/>
                </a:cubicBezTo>
                <a:cubicBezTo>
                  <a:pt x="4500" y="2775"/>
                  <a:pt x="4866" y="2774"/>
                  <a:pt x="5224" y="2813"/>
                </a:cubicBezTo>
                <a:cubicBezTo>
                  <a:pt x="5591" y="2853"/>
                  <a:pt x="5865" y="3111"/>
                  <a:pt x="6229" y="3182"/>
                </a:cubicBezTo>
                <a:cubicBezTo>
                  <a:pt x="6575" y="3250"/>
                  <a:pt x="6923" y="3261"/>
                  <a:pt x="7267" y="3349"/>
                </a:cubicBezTo>
                <a:cubicBezTo>
                  <a:pt x="7597" y="3433"/>
                  <a:pt x="7934" y="3498"/>
                  <a:pt x="8272" y="3550"/>
                </a:cubicBezTo>
                <a:cubicBezTo>
                  <a:pt x="8603" y="3601"/>
                  <a:pt x="8941" y="3653"/>
                  <a:pt x="9277" y="3651"/>
                </a:cubicBezTo>
                <a:cubicBezTo>
                  <a:pt x="9644" y="3648"/>
                  <a:pt x="9947" y="3866"/>
                  <a:pt x="10315" y="3818"/>
                </a:cubicBezTo>
                <a:cubicBezTo>
                  <a:pt x="10651" y="3774"/>
                  <a:pt x="10984" y="3903"/>
                  <a:pt x="11320" y="3852"/>
                </a:cubicBezTo>
                <a:cubicBezTo>
                  <a:pt x="11677" y="3797"/>
                  <a:pt x="12003" y="3978"/>
                  <a:pt x="12358" y="3952"/>
                </a:cubicBezTo>
                <a:lnTo>
                  <a:pt x="12693" y="3952"/>
                </a:lnTo>
                <a:lnTo>
                  <a:pt x="13028" y="3952"/>
                </a:lnTo>
                <a:lnTo>
                  <a:pt x="13028" y="3952"/>
                </a:lnTo>
              </a:path>
            </a:pathLst>
          </a:custGeom>
          <a:noFill/>
          <a:ln w="9360">
            <a:solidFill>
              <a:srgbClr val="8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54080" y="3095640"/>
            <a:ext cx="4691160" cy="1317600"/>
          </a:xfrm>
          <a:custGeom>
            <a:avLst/>
            <a:gdLst/>
            <a:ahLst/>
            <a:rect l="l" t="t" r="r" b="b"/>
            <a:pathLst>
              <a:path w="13029" h="3660">
                <a:moveTo>
                  <a:pt x="0" y="3651"/>
                </a:moveTo>
                <a:cubicBezTo>
                  <a:pt x="337" y="3659"/>
                  <a:pt x="686" y="3650"/>
                  <a:pt x="1005" y="3517"/>
                </a:cubicBezTo>
                <a:cubicBezTo>
                  <a:pt x="1324" y="3384"/>
                  <a:pt x="1687" y="3401"/>
                  <a:pt x="2010" y="3282"/>
                </a:cubicBezTo>
                <a:cubicBezTo>
                  <a:pt x="2362" y="3153"/>
                  <a:pt x="2688" y="2952"/>
                  <a:pt x="3048" y="2847"/>
                </a:cubicBezTo>
                <a:cubicBezTo>
                  <a:pt x="3412" y="2741"/>
                  <a:pt x="3675" y="2505"/>
                  <a:pt x="4053" y="2411"/>
                </a:cubicBezTo>
                <a:cubicBezTo>
                  <a:pt x="4411" y="2322"/>
                  <a:pt x="4742" y="2165"/>
                  <a:pt x="5091" y="2043"/>
                </a:cubicBezTo>
                <a:cubicBezTo>
                  <a:pt x="5450" y="1917"/>
                  <a:pt x="5726" y="1666"/>
                  <a:pt x="6096" y="1574"/>
                </a:cubicBezTo>
                <a:cubicBezTo>
                  <a:pt x="6452" y="1485"/>
                  <a:pt x="6790" y="1343"/>
                  <a:pt x="7134" y="1206"/>
                </a:cubicBezTo>
                <a:cubicBezTo>
                  <a:pt x="7480" y="1068"/>
                  <a:pt x="7834" y="1039"/>
                  <a:pt x="8172" y="904"/>
                </a:cubicBezTo>
                <a:cubicBezTo>
                  <a:pt x="8493" y="775"/>
                  <a:pt x="8859" y="802"/>
                  <a:pt x="9177" y="670"/>
                </a:cubicBezTo>
                <a:cubicBezTo>
                  <a:pt x="9520" y="527"/>
                  <a:pt x="9870" y="484"/>
                  <a:pt x="10215" y="368"/>
                </a:cubicBezTo>
                <a:cubicBezTo>
                  <a:pt x="10534" y="261"/>
                  <a:pt x="10884" y="233"/>
                  <a:pt x="11220" y="268"/>
                </a:cubicBezTo>
                <a:cubicBezTo>
                  <a:pt x="11578" y="306"/>
                  <a:pt x="11909" y="165"/>
                  <a:pt x="12258" y="134"/>
                </a:cubicBezTo>
                <a:lnTo>
                  <a:pt x="12593" y="101"/>
                </a:lnTo>
                <a:lnTo>
                  <a:pt x="12928" y="34"/>
                </a:lnTo>
                <a:lnTo>
                  <a:pt x="13028" y="0"/>
                </a:lnTo>
              </a:path>
            </a:pathLst>
          </a:custGeom>
          <a:noFill/>
          <a:ln w="9360">
            <a:solidFill>
              <a:srgbClr val="00008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715000" y="3200400"/>
            <a:ext cx="21034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Kontoritöötaj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486400" y="3909960"/>
            <a:ext cx="123984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ööli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1600200" y="2970000"/>
            <a:ext cx="1440" cy="1603080"/>
          </a:xfrm>
          <a:prstGeom prst="line">
            <a:avLst/>
          </a:prstGeom>
          <a:ln w="9360">
            <a:solidFill>
              <a:srgbClr val="0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689120" y="4800600"/>
            <a:ext cx="4691160" cy="1432080"/>
          </a:xfrm>
          <a:custGeom>
            <a:avLst/>
            <a:gdLst/>
            <a:ahLst/>
            <a:rect l="l" t="t" r="r" b="b"/>
            <a:pathLst>
              <a:path w="13029" h="3979">
                <a:moveTo>
                  <a:pt x="0" y="0"/>
                </a:moveTo>
                <a:cubicBezTo>
                  <a:pt x="345" y="309"/>
                  <a:pt x="734" y="558"/>
                  <a:pt x="1105" y="837"/>
                </a:cubicBezTo>
                <a:cubicBezTo>
                  <a:pt x="1438" y="1087"/>
                  <a:pt x="1740" y="1380"/>
                  <a:pt x="2110" y="1574"/>
                </a:cubicBezTo>
                <a:cubicBezTo>
                  <a:pt x="2473" y="1764"/>
                  <a:pt x="2707" y="2116"/>
                  <a:pt x="3148" y="2210"/>
                </a:cubicBezTo>
                <a:cubicBezTo>
                  <a:pt x="3508" y="2287"/>
                  <a:pt x="3795" y="2580"/>
                  <a:pt x="4153" y="2679"/>
                </a:cubicBezTo>
                <a:cubicBezTo>
                  <a:pt x="4500" y="2775"/>
                  <a:pt x="4866" y="2774"/>
                  <a:pt x="5224" y="2813"/>
                </a:cubicBezTo>
                <a:cubicBezTo>
                  <a:pt x="5591" y="2853"/>
                  <a:pt x="5865" y="3111"/>
                  <a:pt x="6229" y="3182"/>
                </a:cubicBezTo>
                <a:cubicBezTo>
                  <a:pt x="6575" y="3250"/>
                  <a:pt x="6923" y="3261"/>
                  <a:pt x="7267" y="3349"/>
                </a:cubicBezTo>
                <a:cubicBezTo>
                  <a:pt x="7597" y="3433"/>
                  <a:pt x="7934" y="3498"/>
                  <a:pt x="8272" y="3550"/>
                </a:cubicBezTo>
                <a:cubicBezTo>
                  <a:pt x="8603" y="3601"/>
                  <a:pt x="8941" y="3653"/>
                  <a:pt x="9277" y="3651"/>
                </a:cubicBezTo>
                <a:cubicBezTo>
                  <a:pt x="9644" y="3648"/>
                  <a:pt x="9947" y="3866"/>
                  <a:pt x="10315" y="3818"/>
                </a:cubicBezTo>
                <a:cubicBezTo>
                  <a:pt x="10651" y="3774"/>
                  <a:pt x="10984" y="3903"/>
                  <a:pt x="11320" y="3852"/>
                </a:cubicBezTo>
                <a:cubicBezTo>
                  <a:pt x="11677" y="3797"/>
                  <a:pt x="12003" y="3978"/>
                  <a:pt x="12358" y="3952"/>
                </a:cubicBezTo>
                <a:lnTo>
                  <a:pt x="12693" y="3952"/>
                </a:lnTo>
                <a:lnTo>
                  <a:pt x="13028" y="3952"/>
                </a:lnTo>
                <a:lnTo>
                  <a:pt x="13028" y="3952"/>
                </a:lnTo>
              </a:path>
            </a:pathLst>
          </a:custGeom>
          <a:noFill/>
          <a:ln w="9360">
            <a:solidFill>
              <a:srgbClr val="8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725480" y="4824360"/>
            <a:ext cx="4691160" cy="1317600"/>
          </a:xfrm>
          <a:custGeom>
            <a:avLst/>
            <a:gdLst/>
            <a:ahLst/>
            <a:rect l="l" t="t" r="r" b="b"/>
            <a:pathLst>
              <a:path w="13029" h="3660">
                <a:moveTo>
                  <a:pt x="0" y="3651"/>
                </a:moveTo>
                <a:cubicBezTo>
                  <a:pt x="337" y="3659"/>
                  <a:pt x="686" y="3650"/>
                  <a:pt x="1005" y="3517"/>
                </a:cubicBezTo>
                <a:cubicBezTo>
                  <a:pt x="1324" y="3384"/>
                  <a:pt x="1687" y="3401"/>
                  <a:pt x="2010" y="3282"/>
                </a:cubicBezTo>
                <a:cubicBezTo>
                  <a:pt x="2362" y="3153"/>
                  <a:pt x="2688" y="2952"/>
                  <a:pt x="3048" y="2847"/>
                </a:cubicBezTo>
                <a:cubicBezTo>
                  <a:pt x="3412" y="2741"/>
                  <a:pt x="3675" y="2505"/>
                  <a:pt x="4053" y="2411"/>
                </a:cubicBezTo>
                <a:cubicBezTo>
                  <a:pt x="4411" y="2322"/>
                  <a:pt x="4742" y="2165"/>
                  <a:pt x="5091" y="2043"/>
                </a:cubicBezTo>
                <a:cubicBezTo>
                  <a:pt x="5450" y="1917"/>
                  <a:pt x="5726" y="1666"/>
                  <a:pt x="6096" y="1574"/>
                </a:cubicBezTo>
                <a:cubicBezTo>
                  <a:pt x="6452" y="1485"/>
                  <a:pt x="6790" y="1343"/>
                  <a:pt x="7134" y="1206"/>
                </a:cubicBezTo>
                <a:cubicBezTo>
                  <a:pt x="7480" y="1068"/>
                  <a:pt x="7834" y="1039"/>
                  <a:pt x="8172" y="904"/>
                </a:cubicBezTo>
                <a:cubicBezTo>
                  <a:pt x="8493" y="775"/>
                  <a:pt x="8859" y="802"/>
                  <a:pt x="9177" y="670"/>
                </a:cubicBezTo>
                <a:cubicBezTo>
                  <a:pt x="9520" y="527"/>
                  <a:pt x="9870" y="484"/>
                  <a:pt x="10215" y="368"/>
                </a:cubicBezTo>
                <a:cubicBezTo>
                  <a:pt x="10534" y="261"/>
                  <a:pt x="10884" y="233"/>
                  <a:pt x="11220" y="268"/>
                </a:cubicBezTo>
                <a:cubicBezTo>
                  <a:pt x="11578" y="306"/>
                  <a:pt x="11909" y="165"/>
                  <a:pt x="12258" y="134"/>
                </a:cubicBezTo>
                <a:lnTo>
                  <a:pt x="12593" y="101"/>
                </a:lnTo>
                <a:lnTo>
                  <a:pt x="12928" y="34"/>
                </a:lnTo>
                <a:lnTo>
                  <a:pt x="13028" y="0"/>
                </a:lnTo>
              </a:path>
            </a:pathLst>
          </a:custGeom>
          <a:noFill/>
          <a:ln w="9360">
            <a:solidFill>
              <a:srgbClr val="00008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486400" y="4930920"/>
            <a:ext cx="569880" cy="4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?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257800" y="5640480"/>
            <a:ext cx="23083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Kontoritöötajad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600200" y="6400800"/>
            <a:ext cx="5257800" cy="1440"/>
          </a:xfrm>
          <a:prstGeom prst="line">
            <a:avLst/>
          </a:prstGeom>
          <a:ln w="9360">
            <a:solidFill>
              <a:srgbClr val="0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1600200" y="4798800"/>
            <a:ext cx="1440" cy="1603080"/>
          </a:xfrm>
          <a:prstGeom prst="line">
            <a:avLst/>
          </a:prstGeom>
          <a:ln w="9360">
            <a:solidFill>
              <a:srgbClr val="0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Loengu ülevaad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805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Jätk eelmisest loengus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ndmete esitamise applet ja kodulugemin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Koolkonnad eestis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TÜ, TÜ ja ITK ajalugu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rvutite ja arvutiteaduse sünd: null - teine maailmasõda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arane rehkendamise ajalugu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oogika tekkimin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rvutamise teooria tekkimin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simesed arvutid 17 sajandi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ndustrialiseerimise ideoloogia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õimaldav tehnoloogia: side ja mehaaniline infotöötlu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oogika ja arvutamise teooria väljaarenemine 20 sajandi esimesel pool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simesed võimsad arvutid teises maailmasõja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914400" y="299520"/>
            <a:ext cx="7772400" cy="311400"/>
            <a:chOff x="914400" y="299520"/>
            <a:chExt cx="7772400" cy="311400"/>
          </a:xfrm>
        </p:grpSpPr>
        <p:sp>
          <p:nvSpPr>
            <p:cNvPr id="56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8685360" y="299520"/>
              <a:ext cx="1440" cy="3114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Charles Babbag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822: Difference Engine, jäi pooleli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dee: Analytical Engin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simene programmeerija: Ada Lovelac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914400" y="299520"/>
            <a:ext cx="7772400" cy="311400"/>
            <a:chOff x="914400" y="299520"/>
            <a:chExt cx="7772400" cy="311400"/>
          </a:xfrm>
        </p:grpSpPr>
        <p:sp>
          <p:nvSpPr>
            <p:cNvPr id="177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8685360" y="299520"/>
              <a:ext cx="1440" cy="3114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117440" y="1793880"/>
            <a:ext cx="2540160" cy="338760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5384880" y="1793880"/>
            <a:ext cx="2539800" cy="30067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elegraaf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780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orse 1837: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elektritelegraaf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Wheatstone 1857: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perfolin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rvutite perfolint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902-1910: teleprinter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914400" y="299520"/>
            <a:ext cx="7772400" cy="311400"/>
            <a:chOff x="914400" y="299520"/>
            <a:chExt cx="7772400" cy="311400"/>
          </a:xfrm>
        </p:grpSpPr>
        <p:sp>
          <p:nvSpPr>
            <p:cNvPr id="184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8685360" y="299520"/>
              <a:ext cx="1440" cy="3114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2743200" y="1319040"/>
            <a:ext cx="3174840" cy="150048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2743200" y="2895480"/>
            <a:ext cx="3174840" cy="53352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3048120" y="4379760"/>
            <a:ext cx="3174840" cy="1258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George Boole, de Morgan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oogika (lausearvutuse) alused 1847-1854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atemaatilise algebra ideede kasutamine loogika jaoks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oogika algebra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1A = A, 0A = 0, A+0 = A, A+1 = 1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+B = B+A, AB = BA, AA = A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914400" y="299520"/>
            <a:ext cx="7772400" cy="311400"/>
            <a:chOff x="914400" y="299520"/>
            <a:chExt cx="7772400" cy="311400"/>
          </a:xfrm>
        </p:grpSpPr>
        <p:sp>
          <p:nvSpPr>
            <p:cNvPr id="192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8685360" y="299520"/>
              <a:ext cx="1440" cy="3114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Lausearvutuse aluse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Loogikatehted on funktsioonid tõeväärtustel T ja V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Enimkasutatud tehted on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&amp;     (ja e. konjunktsioon)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V    (või e. disjunktsioon)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-     (ei e. eitus)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=&gt;  (järeldus e. implikatsioon)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==   (samasus e. ekvivalents)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A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&amp;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B       A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B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-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A       A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=&gt;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B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--------     --------     ----      --------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T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T       T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T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T       T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T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V       T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V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V       T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V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V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T       V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T                V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T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V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V       V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V                V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V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914400" y="299520"/>
            <a:ext cx="7772400" cy="311400"/>
            <a:chOff x="914400" y="299520"/>
            <a:chExt cx="7772400" cy="311400"/>
          </a:xfrm>
        </p:grpSpPr>
        <p:sp>
          <p:nvSpPr>
            <p:cNvPr id="197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8685360" y="299520"/>
              <a:ext cx="1440" cy="3114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Lausearvutuse aluse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563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Elementaartehetest saab kokku panna suvalisi avaldisi, mi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realiseerivad tõeväärtusfunktsioon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(A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&amp;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B))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=&gt;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(B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C)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----------------------------   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T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T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T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T    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T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V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V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T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V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T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T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T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V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V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V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T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T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T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V     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T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V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V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V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V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T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T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V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V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V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V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V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2         1            4            3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914400" y="299520"/>
            <a:ext cx="7772400" cy="311400"/>
            <a:chOff x="914400" y="299520"/>
            <a:chExt cx="7772400" cy="311400"/>
          </a:xfrm>
        </p:grpSpPr>
        <p:sp>
          <p:nvSpPr>
            <p:cNvPr id="202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8685360" y="299520"/>
              <a:ext cx="1440" cy="3114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aasaegse loogika alus: Gottlob Freg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693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1879: Kontseptuaalne notatsioon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("Begriffsschrift")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oob kaasaegse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predikaatarvutuse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Näide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sa(Jaan,Mihkel)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sa(Jaan,Ants)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sa(Ants,Peeter)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ga x, y, z jaoks: Isa(x,y) &amp; Isa(y,z) =&gt; Vanaisa(x,z)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õesta, et eksisteerivad z, u nii et Vanaisa(z,u)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Frege filosoofina: 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logitsist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914400" y="299520"/>
            <a:ext cx="7772400" cy="311400"/>
            <a:chOff x="914400" y="299520"/>
            <a:chExt cx="7772400" cy="311400"/>
          </a:xfrm>
        </p:grpSpPr>
        <p:sp>
          <p:nvSpPr>
            <p:cNvPr id="207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V="1">
              <a:off x="8685360" y="299520"/>
              <a:ext cx="1440" cy="3114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000"/>
            </a:br>
            <a:r>
              <a:rPr b="1" lang="en-GB" sz="2000" spc="-1" strike="noStrike">
                <a:solidFill>
                  <a:srgbClr val="000099"/>
                </a:solidFill>
                <a:latin typeface="Bitstream Vera Sans"/>
              </a:rPr>
              <a:t>Loogika mitmekesisus </a:t>
            </a:r>
            <a:endParaRPr b="1" lang="en-US" sz="20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914400" y="299520"/>
            <a:ext cx="7772400" cy="311400"/>
            <a:chOff x="914400" y="299520"/>
            <a:chExt cx="7772400" cy="311400"/>
          </a:xfrm>
        </p:grpSpPr>
        <p:sp>
          <p:nvSpPr>
            <p:cNvPr id="212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V="1">
              <a:off x="8685360" y="299520"/>
              <a:ext cx="1440" cy="3114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 flipV="1">
            <a:off x="2895480" y="1062000"/>
            <a:ext cx="1800" cy="427680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895480" y="5334120"/>
            <a:ext cx="4419720" cy="144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43434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auservut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64960" y="3716280"/>
            <a:ext cx="24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redikaatarvut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28600" y="29718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nduktsioon jms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28600" y="22860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eist järku pred.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280" y="1600200"/>
            <a:ext cx="289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õrgemat järku pred.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973240" y="914400"/>
            <a:ext cx="1905120" cy="39960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Abstrakts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171120" y="4800600"/>
            <a:ext cx="2918520" cy="39960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Väljendusvahend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438280" y="541008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inimaal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276720" y="579132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ntuitsionistli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267080" y="54100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lassika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257800" y="580392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odaal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19920" y="54100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ineaar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924280" y="4390920"/>
            <a:ext cx="3012840" cy="930240"/>
          </a:xfrm>
          <a:custGeom>
            <a:avLst/>
            <a:gdLst/>
            <a:ahLst/>
            <a:rect l="l" t="t" r="r" b="b"/>
            <a:pathLst>
              <a:path w="8371" h="2582">
                <a:moveTo>
                  <a:pt x="0" y="0"/>
                </a:moveTo>
                <a:cubicBezTo>
                  <a:pt x="427" y="70"/>
                  <a:pt x="873" y="83"/>
                  <a:pt x="1287" y="216"/>
                </a:cubicBezTo>
                <a:cubicBezTo>
                  <a:pt x="1442" y="264"/>
                  <a:pt x="1874" y="414"/>
                  <a:pt x="2072" y="432"/>
                </a:cubicBezTo>
                <a:cubicBezTo>
                  <a:pt x="2623" y="480"/>
                  <a:pt x="4753" y="555"/>
                  <a:pt x="5150" y="573"/>
                </a:cubicBezTo>
                <a:cubicBezTo>
                  <a:pt x="5631" y="529"/>
                  <a:pt x="6094" y="489"/>
                  <a:pt x="6579" y="467"/>
                </a:cubicBezTo>
                <a:cubicBezTo>
                  <a:pt x="7210" y="507"/>
                  <a:pt x="7426" y="595"/>
                  <a:pt x="7942" y="895"/>
                </a:cubicBezTo>
                <a:cubicBezTo>
                  <a:pt x="8034" y="1041"/>
                  <a:pt x="8034" y="1160"/>
                  <a:pt x="8083" y="1328"/>
                </a:cubicBezTo>
                <a:cubicBezTo>
                  <a:pt x="8127" y="1482"/>
                  <a:pt x="8158" y="1478"/>
                  <a:pt x="8189" y="1610"/>
                </a:cubicBezTo>
                <a:cubicBezTo>
                  <a:pt x="8255" y="1883"/>
                  <a:pt x="8281" y="2166"/>
                  <a:pt x="8370" y="2435"/>
                </a:cubicBezTo>
                <a:cubicBezTo>
                  <a:pt x="8356" y="2483"/>
                  <a:pt x="8334" y="2581"/>
                  <a:pt x="8334" y="2581"/>
                </a:cubicBezTo>
              </a:path>
            </a:pathLst>
          </a:custGeom>
          <a:noFill/>
          <a:ln w="25560">
            <a:solidFill>
              <a:srgbClr val="3333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953440" y="4765680"/>
            <a:ext cx="1749600" cy="39960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Lahenduv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884320" y="2281320"/>
            <a:ext cx="3351240" cy="3024000"/>
          </a:xfrm>
          <a:custGeom>
            <a:avLst/>
            <a:gdLst/>
            <a:ahLst/>
            <a:rect l="l" t="t" r="r" b="b"/>
            <a:pathLst>
              <a:path w="9307" h="8402">
                <a:moveTo>
                  <a:pt x="0" y="101"/>
                </a:moveTo>
                <a:cubicBezTo>
                  <a:pt x="833" y="0"/>
                  <a:pt x="1623" y="167"/>
                  <a:pt x="2434" y="317"/>
                </a:cubicBezTo>
                <a:cubicBezTo>
                  <a:pt x="3373" y="489"/>
                  <a:pt x="4436" y="432"/>
                  <a:pt x="5332" y="780"/>
                </a:cubicBezTo>
                <a:cubicBezTo>
                  <a:pt x="5557" y="961"/>
                  <a:pt x="5962" y="1212"/>
                  <a:pt x="6227" y="1318"/>
                </a:cubicBezTo>
                <a:cubicBezTo>
                  <a:pt x="6377" y="1380"/>
                  <a:pt x="6434" y="1384"/>
                  <a:pt x="6549" y="1499"/>
                </a:cubicBezTo>
                <a:cubicBezTo>
                  <a:pt x="6752" y="1702"/>
                  <a:pt x="6871" y="1953"/>
                  <a:pt x="7047" y="2178"/>
                </a:cubicBezTo>
                <a:cubicBezTo>
                  <a:pt x="7149" y="2628"/>
                  <a:pt x="6994" y="2055"/>
                  <a:pt x="7228" y="2535"/>
                </a:cubicBezTo>
                <a:cubicBezTo>
                  <a:pt x="7440" y="2967"/>
                  <a:pt x="6964" y="2421"/>
                  <a:pt x="7480" y="2928"/>
                </a:cubicBezTo>
                <a:cubicBezTo>
                  <a:pt x="7568" y="3157"/>
                  <a:pt x="7709" y="3250"/>
                  <a:pt x="7837" y="3466"/>
                </a:cubicBezTo>
                <a:cubicBezTo>
                  <a:pt x="7934" y="3629"/>
                  <a:pt x="7965" y="3792"/>
                  <a:pt x="8124" y="3894"/>
                </a:cubicBezTo>
                <a:cubicBezTo>
                  <a:pt x="8238" y="4132"/>
                  <a:pt x="8348" y="4361"/>
                  <a:pt x="8445" y="4608"/>
                </a:cubicBezTo>
                <a:cubicBezTo>
                  <a:pt x="8476" y="4846"/>
                  <a:pt x="8490" y="5053"/>
                  <a:pt x="8622" y="5256"/>
                </a:cubicBezTo>
                <a:cubicBezTo>
                  <a:pt x="8737" y="5807"/>
                  <a:pt x="8887" y="6354"/>
                  <a:pt x="9019" y="6901"/>
                </a:cubicBezTo>
                <a:cubicBezTo>
                  <a:pt x="9050" y="7258"/>
                  <a:pt x="9085" y="7629"/>
                  <a:pt x="9195" y="7973"/>
                </a:cubicBezTo>
                <a:cubicBezTo>
                  <a:pt x="9226" y="8065"/>
                  <a:pt x="9239" y="8167"/>
                  <a:pt x="9266" y="8259"/>
                </a:cubicBezTo>
                <a:cubicBezTo>
                  <a:pt x="9279" y="8308"/>
                  <a:pt x="9306" y="8401"/>
                  <a:pt x="9306" y="8401"/>
                </a:cubicBezTo>
              </a:path>
            </a:pathLst>
          </a:custGeom>
          <a:noFill/>
          <a:ln w="25560">
            <a:solidFill>
              <a:srgbClr val="3333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124080" y="3429000"/>
            <a:ext cx="259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Ühesuunaliselt lahenduv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705720" y="5791320"/>
            <a:ext cx="24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ittemonotoonn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029200" y="3886200"/>
            <a:ext cx="304920" cy="304920"/>
          </a:xfrm>
          <a:prstGeom prst="ellipse">
            <a:avLst/>
          </a:prstGeom>
          <a:solidFill>
            <a:srgbClr val="00cccc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5252760" y="2209680"/>
            <a:ext cx="1228680" cy="167652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400080" y="1143000"/>
            <a:ext cx="2446200" cy="1009440"/>
          </a:xfrm>
          <a:prstGeom prst="roundRect">
            <a:avLst>
              <a:gd name="adj" fmla="val 13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lassika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redikaatarvutu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Fre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Hollerith’i perfokaard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709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890: Herman Hollerith: perfokaartidega masin USA rahvaloenduse andmete töötlemisek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ollerith’i firmast tekkis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IBM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914400" y="299520"/>
            <a:ext cx="7772400" cy="311400"/>
            <a:chOff x="914400" y="299520"/>
            <a:chExt cx="7772400" cy="311400"/>
          </a:xfrm>
        </p:grpSpPr>
        <p:sp>
          <p:nvSpPr>
            <p:cNvPr id="239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8685360" y="299520"/>
              <a:ext cx="1440" cy="3114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3352680" y="1477800"/>
            <a:ext cx="2286000" cy="24084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2819520" y="5105520"/>
            <a:ext cx="3429000" cy="10666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Vaakumtoru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900: vaakumdioo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ee de Forest: 1906: vaakumtrioo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914400" y="299520"/>
            <a:ext cx="7772400" cy="311400"/>
            <a:chOff x="914400" y="299520"/>
            <a:chExt cx="7772400" cy="311400"/>
          </a:xfrm>
        </p:grpSpPr>
        <p:sp>
          <p:nvSpPr>
            <p:cNvPr id="246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V="1">
              <a:off x="8685360" y="299520"/>
              <a:ext cx="1440" cy="3114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Hulgateooria: Georg Cantor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las 1845-1918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ulgateooria rajaja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aradokside avastamine matemaatika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atemaatika alused korraga ebakindla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914400" y="299520"/>
            <a:ext cx="7772400" cy="311400"/>
            <a:chOff x="914400" y="299520"/>
            <a:chExt cx="7772400" cy="311400"/>
          </a:xfrm>
        </p:grpSpPr>
        <p:sp>
          <p:nvSpPr>
            <p:cNvPr id="251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V="1">
              <a:off x="8685360" y="299520"/>
              <a:ext cx="1440" cy="3114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kadeemilised IT-koolkonnad eesti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57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95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TÜ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5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Küberneetika instituu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5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Ü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5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ITK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5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Polütehniline instituu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5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allinna ülikoo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914400" y="299520"/>
            <a:ext cx="7772400" cy="311400"/>
            <a:chOff x="914400" y="299520"/>
            <a:chExt cx="7772400" cy="311400"/>
          </a:xfrm>
        </p:grpSpPr>
        <p:sp>
          <p:nvSpPr>
            <p:cNvPr id="61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8685360" y="299520"/>
              <a:ext cx="1440" cy="3114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ussell &amp; Whitehea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910-1913: massiivne loogikatraktaa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rincipia Mathematica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aradoksid -&gt; tüüpide teeoria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Filosoofilised vaated: logitsism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914400" y="299520"/>
            <a:ext cx="7772400" cy="311400"/>
            <a:chOff x="914400" y="299520"/>
            <a:chExt cx="7772400" cy="311400"/>
          </a:xfrm>
        </p:grpSpPr>
        <p:sp>
          <p:nvSpPr>
            <p:cNvPr id="256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V="1">
              <a:off x="8685360" y="299520"/>
              <a:ext cx="1440" cy="3114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Formalism; Hilber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oogik ja matemaatik: 1862-1943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Filosoofilistelt vaadetelt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formalis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“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Hilberti programm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” matemaatikale kindlate aluste rajamiseks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atemaatika alused tuleb esitada loogika keeles, range aksiomaatikana.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uleb tõestada, et nimetatud aksiomaatika ei ole vastuoluline, st temast ei ole võimalik tuletada korraga mingit väidet A ja sellesama väite eitust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-A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914400" y="299520"/>
            <a:ext cx="7772400" cy="311400"/>
            <a:chOff x="914400" y="299520"/>
            <a:chExt cx="7772400" cy="311400"/>
          </a:xfrm>
        </p:grpSpPr>
        <p:sp>
          <p:nvSpPr>
            <p:cNvPr id="261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>
              <a:off x="8685360" y="299520"/>
              <a:ext cx="1440" cy="3114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tuitsionism: Brouwer &amp; Heyting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i aktsepteeri näiteks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 v -A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- -A &lt;=&gt; A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(((A =&gt; B) =&gt; A) =&gt; A)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914400" y="299520"/>
            <a:ext cx="7772400" cy="311400"/>
            <a:chOff x="914400" y="299520"/>
            <a:chExt cx="7772400" cy="311400"/>
          </a:xfrm>
        </p:grpSpPr>
        <p:sp>
          <p:nvSpPr>
            <p:cNvPr id="266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8685360" y="299520"/>
              <a:ext cx="1440" cy="3114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Formaalne süsteem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arski ja Carnap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Süntaks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Tuletamisreeglite süsteem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Semantika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914400" y="299520"/>
            <a:ext cx="7772400" cy="311400"/>
            <a:chOff x="914400" y="299520"/>
            <a:chExt cx="7772400" cy="311400"/>
          </a:xfrm>
        </p:grpSpPr>
        <p:sp>
          <p:nvSpPr>
            <p:cNvPr id="271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8685360" y="299520"/>
              <a:ext cx="1440" cy="3114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äielikkus ja mittetäielikku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661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rt Gödel (1906-1978)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930: loogika baaskeel predikaatarvutus on täielik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931: formaalne aritmeetika ei ole täielik, seda ei saagi lõpliku formaalse süsteemiga kirjeldada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õestuse idee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Tõestuse alusidee on tuntud valetaja paradoks: kas väide ``ma praegu valetan'' on tõene või mitte? Lihtne arutlus näitab, et ta ei saa olla kumbagi.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Koostame nüüd sellise aritmeetilise väite A, mis ütleb, et seesama A ei ole tõestatav (see väide ei ütle, et A ei ole tõsi!). Siis ei saa väide A ise olla vale. Tõepoolest, kui A oleks vale, siis A sisu kohaselt peaks A olema tõestatav. Kuna me valesid väiteid tõestada ei saa, siib peabki A olema õige. Kuna A on õige, peab kehtima see, mida A väidab: A pole tõestatav. Tõepoolest, kui A oleks tõestatav, siis oleks A sisu ("A ei ole tõestatav") vale, see on aga, nagu näidatud, võimatu. Kokkuvõtteks, A on õige, aga ei A ega A eitus pole tõestatavad.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914400" y="299520"/>
            <a:ext cx="7772400" cy="311400"/>
            <a:chOff x="914400" y="299520"/>
            <a:chExt cx="7772400" cy="311400"/>
          </a:xfrm>
        </p:grpSpPr>
        <p:sp>
          <p:nvSpPr>
            <p:cNvPr id="276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V="1">
              <a:off x="8685360" y="299520"/>
              <a:ext cx="1440" cy="3114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000" spc="-1" strike="noStrike">
                <a:solidFill>
                  <a:srgbClr val="000099"/>
                </a:solidFill>
                <a:latin typeface="Bitstream Vera Sans"/>
              </a:rPr>
              <a:t>Turingi masin &amp; Churchi lambda-arvutus</a:t>
            </a:r>
            <a:endParaRPr b="1" lang="en-US" sz="20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656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935-1937: artikkel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uringi masinast: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universaalsus, mittelahenduvu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936: Churchi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lambda-arvutus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,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Churchi tees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universaalsus, mittelahenduvus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914400" y="299520"/>
            <a:ext cx="7772400" cy="311400"/>
            <a:chOff x="914400" y="299520"/>
            <a:chExt cx="7772400" cy="311400"/>
          </a:xfrm>
        </p:grpSpPr>
        <p:sp>
          <p:nvSpPr>
            <p:cNvPr id="281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8685360" y="299520"/>
              <a:ext cx="1440" cy="3114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3454560" y="1952640"/>
            <a:ext cx="2286000" cy="26956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Vannevar Bush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IT: 1930-1935-1937: Differential Analyzer dif. võrrandite lahendamisek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iimane versioon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kaalus 100 tonni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2000 elektronlampi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150 mootorit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tuhanded releed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914400" y="299520"/>
            <a:ext cx="7772400" cy="311400"/>
            <a:chOff x="914400" y="299520"/>
            <a:chExt cx="7772400" cy="311400"/>
          </a:xfrm>
        </p:grpSpPr>
        <p:sp>
          <p:nvSpPr>
            <p:cNvPr id="287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>
              <a:off x="8685360" y="299520"/>
              <a:ext cx="1440" cy="3114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Ludwig Wittgenstein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8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889-1951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nalüütilise filosoofia juhtkuju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nnustas loogilise positivismi ja Viini ringi teket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õtestatud tekst koosneb kas (a) loogika ja matemaatika formaalsetest väidetest või (b) konkreetsete teadusharude fakte esitavatest lausetest.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gasugusel fakti esitaval väitel on sisu ainult siis, kui on võimalik öelda, kuidas selle väite kehtivust kontrollida.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etafüüsilised väited, mis ei lange punktide 1 ja 2 alla, on sisutud.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õik moraali, esteetikat ja religiooni käsitlevad väited on mittekontrollitavad ja mõttetud.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914400" y="299520"/>
            <a:ext cx="7772400" cy="311400"/>
            <a:chOff x="914400" y="299520"/>
            <a:chExt cx="7772400" cy="311400"/>
          </a:xfrm>
        </p:grpSpPr>
        <p:sp>
          <p:nvSpPr>
            <p:cNvPr id="292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V="1">
              <a:off x="8685360" y="299520"/>
              <a:ext cx="1440" cy="3114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Claude Shannon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IT, 1938, Shannon’i magistritöö sidus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Boole algebra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lektrilülitid ja -skeemi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Bitid ja info kodeerimise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nfo otsimise algoritmi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914400" y="299520"/>
            <a:ext cx="7772400" cy="311400"/>
            <a:chOff x="914400" y="299520"/>
            <a:chExt cx="7772400" cy="311400"/>
          </a:xfrm>
        </p:grpSpPr>
        <p:sp>
          <p:nvSpPr>
            <p:cNvPr id="297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8685360" y="299520"/>
              <a:ext cx="1440" cy="3114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tanasoff’i arvuti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John Vincent Atanasoff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939-1942: esimene elektronarvuti?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914400" y="299520"/>
            <a:ext cx="7772400" cy="311400"/>
            <a:chOff x="914400" y="299520"/>
            <a:chExt cx="7772400" cy="311400"/>
          </a:xfrm>
        </p:grpSpPr>
        <p:sp>
          <p:nvSpPr>
            <p:cNvPr id="302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8685360" y="299520"/>
              <a:ext cx="1440" cy="3114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rvu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rvud kontidel: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eriood 20,000 - 30,000 aastat tagasi Cro-Magnon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inimese ilmumine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Babüloonia: positsiooniline 60-süsteem 1900 kuni 1800 BC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aiade arvusüsteem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Null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Babüloonia 300 BC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ndia 600 A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bakus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Babüloonia 1,000 BC kuni 500 BC,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914400" y="299520"/>
            <a:ext cx="7772400" cy="311400"/>
            <a:chOff x="914400" y="299520"/>
            <a:chExt cx="7772400" cy="311400"/>
          </a:xfrm>
        </p:grpSpPr>
        <p:sp>
          <p:nvSpPr>
            <p:cNvPr id="66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>
              <a:off x="8685360" y="299520"/>
              <a:ext cx="1440" cy="3114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876920" y="2514600"/>
            <a:ext cx="304776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Zuse arvuti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onrad Zus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941-1944: Z3, Z4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Releedega digitaalarvuti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914400" y="299520"/>
            <a:ext cx="7772400" cy="311400"/>
            <a:chOff x="914400" y="299520"/>
            <a:chExt cx="7772400" cy="311400"/>
          </a:xfrm>
        </p:grpSpPr>
        <p:sp>
          <p:nvSpPr>
            <p:cNvPr id="307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V="1">
              <a:off x="8685360" y="299520"/>
              <a:ext cx="1440" cy="3114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Colossus vs Geheimfernschreiber</a:t>
            </a:r>
            <a:r>
              <a:rPr b="1" lang="en-GB" sz="2400" spc="-1" strike="noStrike">
                <a:solidFill>
                  <a:srgbClr val="808080"/>
                </a:solidFill>
                <a:latin typeface="Bitstream Vera Sans"/>
              </a:rPr>
              <a:t> 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ondonis 1943: saksa allveelaevade salakirja dekodeerimisek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800 elektronlampi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deoloogia ja matemaatika töötas välja Alan Turing, kes varem juhtis lihtsama ENIGMA dekodeerimis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914400" y="299520"/>
            <a:ext cx="7772400" cy="311400"/>
            <a:chOff x="914400" y="299520"/>
            <a:chExt cx="7772400" cy="311400"/>
          </a:xfrm>
        </p:grpSpPr>
        <p:sp>
          <p:nvSpPr>
            <p:cNvPr id="312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V="1">
              <a:off x="8685360" y="299520"/>
              <a:ext cx="1440" cy="3114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ark I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oward Aiken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BM’i elektriline (releed) digitaalne arvuti MARK I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939-1944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750.000 komponenti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5 tonni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914400" y="299520"/>
            <a:ext cx="7772400" cy="311400"/>
            <a:chOff x="914400" y="299520"/>
            <a:chExt cx="7772400" cy="311400"/>
          </a:xfrm>
        </p:grpSpPr>
        <p:sp>
          <p:nvSpPr>
            <p:cNvPr id="317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8685360" y="299520"/>
              <a:ext cx="1440" cy="3114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2590920" y="2743200"/>
            <a:ext cx="4647960" cy="3137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Loogika olemu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57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lassikalisest kreeka keelest sõnast λόγος (logos), algtähendusega sõna ehk mida räägitakse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oogika on teadus mõtlemise alustest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oogika uurib mõtlemise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paratamatuid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aspekte ehk seda, mis üldse teeb mõtlemisest mõtlemise ehk õige mõtlemise ehk seda, mida ja kuidas üldse mõelda saab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nformaalne loogika: teatud vaidlusmeetodite analüüs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Formaalne loogika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reeglisüsteemid ja algoritmid nö mehaaniliseks järelduste tegemiseks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reeglisüsteemide kui matemaatiliste objektide uurimine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rvutid on mõtlemise masinad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914400" y="299520"/>
            <a:ext cx="7772400" cy="311400"/>
            <a:chOff x="914400" y="299520"/>
            <a:chExt cx="7772400" cy="311400"/>
          </a:xfrm>
        </p:grpSpPr>
        <p:sp>
          <p:nvSpPr>
            <p:cNvPr id="72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V="1">
              <a:off x="8685360" y="299520"/>
              <a:ext cx="1440" cy="3114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Loogika ain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628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Fundamentaalseid mõtlemismeetodeid: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Deduktsioon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Induktsioon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Matemaatika sissetulek: muutujad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Lausemuutujad: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kui A ja B, siis A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ei ole tõsi, et A ja mitte A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kui A-st järeldub B, ning A on tõsi, siis ka B on tõsi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16002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Omadused: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Symbol" charset="2"/>
              <a:buChar char="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Kui kõigil asjadel on omadus P, siis on olemas asi, millel on omadus P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Symbol" charset="2"/>
              <a:buChar char="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???  Kui on olemas asi, millel on omadus P, siis on kõigil asjadel omadus P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914400" y="299520"/>
            <a:ext cx="7772400" cy="311400"/>
            <a:chOff x="914400" y="299520"/>
            <a:chExt cx="7772400" cy="311400"/>
          </a:xfrm>
        </p:grpSpPr>
        <p:sp>
          <p:nvSpPr>
            <p:cNvPr id="77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V="1">
              <a:off x="8685360" y="299520"/>
              <a:ext cx="1440" cy="3114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Loogika tek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armenides (5 sajand e.m.a.) : kasutas pikki loogilisi põhjendusi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Zenon Eleast (5 sajand e.m.a.)  - apooriad/paradoksi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ofistid -  Sokrates (470-399 e.m.a)  - Platon (428/427 - 348/347 e.m.a)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Aristoteles: väidete struktuur kui iseseisev uurimisobjekt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914400" y="299520"/>
            <a:ext cx="7772400" cy="311400"/>
            <a:chOff x="914400" y="299520"/>
            <a:chExt cx="7772400" cy="311400"/>
          </a:xfrm>
        </p:grpSpPr>
        <p:sp>
          <p:nvSpPr>
            <p:cNvPr id="82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V="1">
              <a:off x="8685360" y="299520"/>
              <a:ext cx="1440" cy="3114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Loogika teke: Aristotele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7234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üllogismide näited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. eeldus: iga koer on imetaja.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2. eeldus: mõned neljajalgsed on koerad.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järeldus: mõned neljajalgsed on imetajad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. eeldus: iga anarhist on süsteemi vastane.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2. eeldus: mõned poliitikud on anarhistid.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järeldus: mõned poliitikud on süsteemi vastased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uletuse struktuuri võib seega esitada muutujate x,y ja z abil ning tuletus on õige sõltumata fraasidest, millega neid muutujaid asendada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. eeldus: iga x on y.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2. eeldus: mõni z on x.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järeldus: mõni z on y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914400" y="299520"/>
            <a:ext cx="7772400" cy="311400"/>
            <a:chOff x="914400" y="299520"/>
            <a:chExt cx="7772400" cy="311400"/>
          </a:xfrm>
        </p:grpSpPr>
        <p:sp>
          <p:nvSpPr>
            <p:cNvPr id="87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V="1">
              <a:off x="8685360" y="299520"/>
              <a:ext cx="1440" cy="3114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ristotelese “kategoorilised väited”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ga b on a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itte ükski b pole a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õni b on a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õni b ei ole a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süllogism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on väitlus, kus mingitest etteantud väidetest (eeldustest) järeldub paratamatult uus väide. Aristotelese puhul alati kaks kategoorilist eeldust, üks kategooriline järeldus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914400" y="299520"/>
            <a:ext cx="7772400" cy="311400"/>
            <a:chOff x="914400" y="299520"/>
            <a:chExt cx="7772400" cy="311400"/>
          </a:xfrm>
        </p:grpSpPr>
        <p:sp>
          <p:nvSpPr>
            <p:cNvPr id="92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8685360" y="299520"/>
              <a:ext cx="1440" cy="3114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 </dc:title>
</cp:coreProperties>
</file>